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DE0-02DE-46CB-BB13-45788D7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4A9-B86E-4A21-9CE4-6294A277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D85-14B6-4CDE-8AE7-D064DD8F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312-DE2F-4157-9C01-94B46955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5B9-252D-4295-A82C-D4D8176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D6B-BD0A-436E-A330-066B53A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E60-4198-4C7A-BE0C-92A98845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29C-2E0E-4C4E-AF40-8F5E87DA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C08-36A8-4B60-AB19-2814EA80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3FB-53DC-4EE6-B730-F71C2424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BB6-CE60-4932-B14A-ED5CF46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ED0-4FA6-4FB3-82EF-486BC1B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D664-A683-4206-BE91-0348C894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7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40864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16200000">
            <a:off x="69840" y="2978280"/>
            <a:ext cx="54100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BALANC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92680" cy="4622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838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ides of an imaginary line are the same: like looking in a mirro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ide of the imaginary line is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each has the same visual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11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ments radiate out from the center creating a focal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Radi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2160" y="1828800"/>
            <a:ext cx="43624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pperplate"/>
              </a:rPr>
              <a:t>Crystallographic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the same visual weight spread out over the entire area - like in a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87692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pperplate"/>
              </a:rPr>
              <a:t>VISUAL BALANCE</a:t>
            </a: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is the even use of 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opperplate"/>
              </a:rPr>
              <a:t>visual weight</a:t>
            </a: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By carefully placing the different parts of a picture we can make a 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opperplate"/>
              </a:rPr>
              <a:t>Balanced composition</a:t>
            </a: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YOU THINK THE FOLLOWING ARTWORKS ARE BALANCED?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3640" y="5791320"/>
            <a:ext cx="46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Paper Cu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uble Happiness, Jiao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3802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23240" cy="341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08600" y="4648320"/>
            <a:ext cx="45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 Pollock – Cathedral (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69400" y="548640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 Window - Susan Wa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4956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27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2360" y="5867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VIII - Wassily Kandinsky 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2193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Where have you heard                    this word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What are some examples                    you can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43000" y="3962520"/>
            <a:ext cx="7358040" cy="2135160"/>
            <a:chOff x="1143000" y="3962520"/>
            <a:chExt cx="7358040" cy="213516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010280" y="4114800"/>
              <a:ext cx="149076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047760" y="3962520"/>
              <a:ext cx="3556080" cy="19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1143000" y="4038840"/>
              <a:ext cx="1563480" cy="20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What is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Can you find different examples of BalAnce and symmetry in this ro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793880" cy="154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3429000"/>
            <a:ext cx="187668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1938240" cy="187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54864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343400"/>
            <a:ext cx="94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7800" y="54864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7520" y="54864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5486400"/>
            <a:ext cx="23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logra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member the four kinds of bal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a Teeter-totter or a scale Is Balanced  whe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pperplate"/>
              </a:rPr>
              <a:t>Weight is even</a:t>
            </a: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 on both sid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A BaLance Beam                        forces you to keep                    you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pperplate"/>
              </a:rPr>
              <a:t>weight even</a:t>
            </a: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                          so you don’t fall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24019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950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Balance Mea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371600"/>
            <a:ext cx="470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EEP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pperplate"/>
              </a:rPr>
              <a:t>In Art There is an Idea Called “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pperplate"/>
              </a:rPr>
              <a:t>VISUAL WEIGHT</a:t>
            </a:r>
            <a:r>
              <a:rPr b="0" lang="en-US" sz="3600" spc="-1" strike="noStrike">
                <a:solidFill>
                  <a:srgbClr val="ff0000"/>
                </a:solidFill>
                <a:latin typeface="Copperplate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1447920"/>
            <a:ext cx="403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“visual weight” something has, the more it ‘attracts’ your e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537000" cy="235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3573720" cy="247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657600"/>
            <a:ext cx="332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you notice it more than other things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588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pperplate"/>
              </a:rPr>
              <a:t>DO YOU SEE VISUAL WEIGHT IN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Visual Weight can be created us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548000" cy="3353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27168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5240" y="3581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124080" y="4724280"/>
            <a:ext cx="1782720" cy="178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666880" y="228600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858000" y="1295280"/>
            <a:ext cx="1828800" cy="180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19520" y="1905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40480" y="22096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0280" y="42670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838080" y="5029200"/>
            <a:ext cx="1676520" cy="120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6172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808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rk colors ‘weigh’ more visually than light col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746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4724280" cy="1824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Copperplate"/>
              </a:rPr>
              <a:t>Visual Balance</a:t>
            </a: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 is like physical Balance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because it is about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“</a:t>
            </a:r>
            <a:r>
              <a:rPr b="1" lang="en-US" sz="4800" spc="-1" strike="noStrike">
                <a:solidFill>
                  <a:srgbClr val="ff0000"/>
                </a:solidFill>
                <a:latin typeface="Copperplate"/>
              </a:rPr>
              <a:t>keeping weight even”</a:t>
            </a: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, only this time it means </a:t>
            </a:r>
            <a:br>
              <a:rPr sz="4800"/>
            </a:br>
            <a:r>
              <a:rPr b="0" lang="en-US" sz="4800" spc="-1" strike="noStrike" u="sng">
                <a:solidFill>
                  <a:srgbClr val="ff0000"/>
                </a:solidFill>
                <a:uFillTx/>
                <a:latin typeface="Copperplate"/>
              </a:rPr>
              <a:t>visual weight</a:t>
            </a: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"/>
              </a:rPr>
              <a:t>There are several ways to create</a:t>
            </a:r>
            <a:r>
              <a:rPr b="0" lang="en-US" sz="4400" spc="-1" strike="noStrike">
                <a:solidFill>
                  <a:srgbClr val="000000"/>
                </a:solidFill>
                <a:latin typeface="Copperplate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pperplate"/>
              </a:rPr>
              <a:t>VISUAL BALANCE</a:t>
            </a:r>
            <a:r>
              <a:rPr b="0" lang="en-US" sz="4400" spc="-1" strike="noStrike">
                <a:solidFill>
                  <a:srgbClr val="000000"/>
                </a:solidFill>
                <a:latin typeface="Copperplate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7:21:41Z</dcterms:created>
  <dc:creator>bj mccarville</dc:creator>
  <dc:description/>
  <dc:language>en-US</dc:language>
  <cp:lastModifiedBy>bj mccarville</cp:lastModifiedBy>
  <dcterms:modified xsi:type="dcterms:W3CDTF">2009-02-09T01:26:29Z</dcterms:modified>
  <cp:revision>5</cp:revision>
  <dc:subject/>
  <dc:title>PowerPoint Presentation</dc:title>
</cp:coreProperties>
</file>